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32CD1-24FB-4AA7-BBA7-F51B2E126F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FAB35-1BE7-4274-B152-A3115AA876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D ACADEMIC STUDIES OF MEDICINE</a:t>
            </a:r>
            <a:endParaRPr b="0" lang="en-US" sz="2400" spc="-1" strike="noStrike">
              <a:solidFill>
                <a:srgbClr val="000000"/>
              </a:solidFill>
              <a:latin typeface="Arial"/>
            </a:endParaRPr>
          </a:p>
        </p:txBody>
      </p:sp>
      <p:sp>
        <p:nvSpPr>
          <p:cNvPr id="47"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 Englis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cturer: Dusica Obradov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5"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citis</a:t>
            </a:r>
            <a:endParaRPr b="0" lang="en-US" sz="2400" spc="-1" strike="noStrike">
              <a:solidFill>
                <a:srgbClr val="000000"/>
              </a:solidFill>
              <a:latin typeface="Arial"/>
            </a:endParaRPr>
          </a:p>
        </p:txBody>
      </p:sp>
      <p:sp>
        <p:nvSpPr>
          <p:cNvPr id="49"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ndicitis is inflammation of the appendix, a worm-like outpouching of the cecum (the beginning of the large intestine or colon) which is several inches in length. It is located in the lower right portion of the abdomen. Although the appendix does not seem to serve any purpose, it can still become diseased. If untreated, an inflamed appendix can burst , causing infection and even death. About 1 in 500 people has appendicitis each year. It is more common in males than in females and the incidence is highest in teenagers and people in their early twentie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ndicitis may occur after a viral infection in the digestive tract or when the tube connecting the large intestine and appendix is blocked by trapped stool.............</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51"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c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pt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at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mbilic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use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stroenterit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xa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em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c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ndectom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53"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you define appendicit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ppens if the diseased appendix is left untrea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which cases may appendicitis occu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symptoms of appendicit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ppens as the infection worse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is an accurate diagnosis of appendicitis challeng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conditions may mimic appendicit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people with symptoms of appendicitis take laxatives or enem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people with such symptoms take pain medicin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people lead a normal life without their appendix?</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the plural form for the following nouns:</a:t>
            </a:r>
            <a:endParaRPr b="0" lang="en-US" sz="2400" spc="-1" strike="noStrike">
              <a:solidFill>
                <a:srgbClr val="000000"/>
              </a:solidFill>
              <a:latin typeface="Arial"/>
            </a:endParaRPr>
          </a:p>
        </p:txBody>
      </p:sp>
      <p:sp>
        <p:nvSpPr>
          <p:cNvPr id="55"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nch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enomen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ndix</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teri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mul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uros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rd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ex</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li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ul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the verbs in brackets into The Present Perfect or Past Perfect Tense:</a:t>
            </a:r>
            <a:endParaRPr b="0" lang="en-US" sz="2400" spc="-1" strike="noStrike">
              <a:solidFill>
                <a:srgbClr val="000000"/>
              </a:solidFill>
              <a:latin typeface="Arial"/>
            </a:endParaRPr>
          </a:p>
        </p:txBody>
      </p:sp>
      <p:sp>
        <p:nvSpPr>
          <p:cNvPr id="57"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 friend (give up) smoking recent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the doctor (tell) her the news, she (go) home satisfi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I arrived at the faculty, the lectures (begin) alread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can’t do this exercise as well as they (do) it up to now.</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months now, we (meet) no one except John and his colleag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 teacher was sure that he (give) the right advi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students (pass) already all their exams in this semest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he (read) half of the book, he said he didn’t like it.</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the following sentences:</a:t>
            </a:r>
            <a:endParaRPr b="0" lang="en-US" sz="2400" spc="-1" strike="noStrike">
              <a:solidFill>
                <a:srgbClr val="000000"/>
              </a:solidFill>
              <a:latin typeface="Arial"/>
            </a:endParaRPr>
          </a:p>
        </p:txBody>
      </p:sp>
      <p:sp>
        <p:nvSpPr>
          <p:cNvPr id="59"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he began vomiting, h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ould consult the doctor for sure if you........................................</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agnosis will not be easy unless the pati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appendix ruptures, sh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ppendectomy were not performed, he............................................</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king points:</a:t>
            </a:r>
            <a:endParaRPr b="0" lang="en-US" sz="2400" spc="-1" strike="noStrike">
              <a:solidFill>
                <a:srgbClr val="000000"/>
              </a:solidFill>
              <a:latin typeface="Arial"/>
            </a:endParaRPr>
          </a:p>
        </p:txBody>
      </p:sp>
      <p:sp>
        <p:nvSpPr>
          <p:cNvPr id="61"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oms and causes of appendicit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nosis and treat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23-09-14T09:36:49Z</dcterms:modified>
  <cp:revision>22</cp:revision>
  <dc:subject/>
  <dc:title>Slide 1</dc:title>
</cp:coreProperties>
</file>